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8833-053A-44C1-A042-C0685EBB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3A82-7D49-4B8F-BF94-12BBA8B5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4C2-BD43-464B-A283-8DB171FB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DB47-90F7-46F7-BDAF-0E1BA382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EFD-BD3D-43DA-A6DC-2D2BBB42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7EE-9D3C-473A-8934-D958B90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66F3-624D-4CC8-95BF-14FFD82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0DF-A45A-49EC-89ED-C28F3645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8B9-6070-478B-8404-645B1FCA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4E7-9772-4250-A577-1752E502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CF24-0566-47D3-92B9-00BC9F83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8B8-4AB1-411E-9A99-43381FA1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A41-6322-4480-B72E-6BB415065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7010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733920" cy="103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قامت مريم بنتُ داود حِذاء العـ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تندبُ إبنَها المصلوب بأيـدي    الجنو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رمـحُ الحُزنِ غائــص فـي  نفسهــ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ومن ألمِـهِ غابـَتْ عـن  حسّه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ثم فاقت الوالدة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وصاحـت آه يـا ولـد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3886200" cy="10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حبيبي حبيبـي يـا ولـداه خاطِبْن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ـف أراك عُريـان ولا أندُبـك يا  إب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وجاعك حَرَقَت أكب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آلامـك خرَقـت  فــؤاد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كيـف تحيــــا والدتــ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يا ولــداه بعـــدَ  موتــك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04920"/>
            <a:ext cx="457200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عـزّ أمك وثمـرتَها الفر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يـا وحيـدْ أبيك وصورتَــه المجيـد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فتراقـَـكْ كسكيـن جرحَتْن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وعذابـك كحربــة طعنَتْنـِـ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  <a:cs typeface="Times New Roman"/>
              </a:rPr>
              <a:t>إسمــح لـــي أمُــتْ قبلــ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ccc"/>
                </a:solidFill>
                <a:latin typeface="Simplified Arabic"/>
              </a:rPr>
              <a:t>ولا أنـظـــر أحـوالَــــ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9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أمَّ يســوع بنــتَ 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بِ الأكـر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عـروس الـروحِ القـّدوس الأعظـ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أشرِكيـنا بـآلام فادينا</a:t>
            </a: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Times New Roman"/>
              </a:rPr>
              <a:t> 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زَّينـيـنا بنعـمة بارين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Simplified Arabic"/>
                <a:ea typeface="Simplified Arabic"/>
              </a:rPr>
              <a:t>  </a:t>
            </a:r>
            <a:r>
              <a:rPr b="1" lang="ar-SA" sz="4000" spc="-1" strike="noStrike">
                <a:solidFill>
                  <a:srgbClr val="ffffcc"/>
                </a:solidFill>
                <a:latin typeface="Simplified Arabic"/>
                <a:cs typeface="Simplified Arabic"/>
              </a:rPr>
              <a:t>لِنخدُمكِ على الدو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Simplified Arabic"/>
              </a:rPr>
              <a:t>مدى الساعـات والأيـام</a:t>
            </a:r>
            <a:r>
              <a:rPr b="0" lang="ar-SA" sz="2400" spc="-1" strike="noStrike">
                <a:solidFill>
                  <a:srgbClr val="cc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54:23Z</dcterms:created>
  <dc:creator>SUZANNE.MD</dc:creator>
  <dc:description/>
  <dc:language>en-US</dc:language>
  <cp:lastModifiedBy>HANI SAFI</cp:lastModifiedBy>
  <dcterms:modified xsi:type="dcterms:W3CDTF">2003-03-14T12:14:02Z</dcterms:modified>
  <cp:revision>3</cp:revision>
  <dc:subject/>
  <dc:title>PowerPoint Presentation</dc:title>
</cp:coreProperties>
</file>